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90B1-B388-4897-8CBF-19CA4D3D8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48D5-A5EF-4733-9C32-48EFDC95C3E1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8FD5-886A-4F95-9C92-8AAD4313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D433-3B4B-45AF-840D-7154606A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5E0-2586-49CF-B222-E895D368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F34-A4A0-469E-9024-3413B948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3367-503C-4079-A0DB-498CB224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555E-B80E-4B54-88DF-3509B097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68E1-AEA9-416D-87D6-CAD3D24B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C436-5D8B-40E8-981B-E6B991AF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AFFD-67E2-4B62-B38A-109CFF30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73A2-9522-45E9-AB6F-24E6F9F0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54B8-413B-4E46-963A-A5F36C85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C26-A0D0-411B-8983-BFA896A2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A2BA-ADE9-43F5-9FFF-32BBD0C0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E21B-84C8-4935-8113-00474742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0399-73FF-4D3D-A305-A9919BBD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0B2B-EECE-4518-8E1B-A4460E05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F15D-BAC8-4F50-BD2C-C25074F3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19A80E-7101-40E2-A619-7CA25EAE3D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0FF0AD-8A68-4F47-ABBA-F2D5046997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FF46EC-653A-4109-83E5-A82DE61BB9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9AB115-2AC1-49D0-A331-57E7AE4EDF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89E78D-6650-4A96-907C-BB6E7384F8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56B9-7BB4-48D2-9AA2-E5F0AB94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7D37AB-DE39-43A0-984A-664039B2CC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89F1F7-1C01-4F2A-A317-37685C4E81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B70539-148F-4417-96AF-7A228BD4F4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9628BF-D1A8-4B16-BD65-439C3750D7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411E63-009B-49BA-9062-026B6F2898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C9E701-C758-48E9-BD53-31C58F3B8D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05954F-0DF9-4E4B-982F-9D49F6696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1059-8513-4FEA-A61A-579DB96B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81EC-B583-4DA9-A748-49DE5BEA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180-A8A2-4380-9056-CAE96153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0637-3BAB-41E4-B203-15C291A1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3F94-6309-4465-AE0E-B2EA5015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FD4C-D3F7-4CDE-8007-C70CFD17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DF9E-EFDB-492A-9352-2E1BBD372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4553-1C94-47A3-98E1-61312A232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B8A7-2ECC-4D33-B141-F6037A54C589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0066"/>
                </a:solidFill>
                <a:latin typeface="Tahoma"/>
              </a:rPr>
              <a:t>ФИЗИКАЛНА ТЕРАПИЈА КОД ПОВРЕДА МЕКИХ ТКИВА ГОРЊЕГ ЕКСТРЕМИТЕТА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fr-FR" sz="2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16" name="TextBox 1"/>
          <p:cNvGrpSpPr/>
          <p:nvPr/>
        </p:nvGrpSpPr>
        <p:grpSpPr>
          <a:xfrm>
            <a:off x="1712880" y="407880"/>
            <a:ext cx="6437520" cy="841320"/>
            <a:chOff x="1712880" y="407880"/>
            <a:chExt cx="6437520" cy="841320"/>
          </a:xfrm>
        </p:grpSpPr>
        <p:pic>
          <p:nvPicPr>
            <p:cNvPr id="317" name="TextBox 1" descr=""/>
            <p:cNvPicPr/>
            <p:nvPr/>
          </p:nvPicPr>
          <p:blipFill>
            <a:blip r:embed="rId1"/>
            <a:stretch/>
          </p:blipFill>
          <p:spPr>
            <a:xfrm>
              <a:off x="1712880" y="407880"/>
              <a:ext cx="6437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828800" y="457200"/>
              <a:ext cx="6265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Универзитет у Кр</a:t>
              </a: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гујевцу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900" spc="-1" strike="noStrike">
                  <a:solidFill>
                    <a:srgbClr val="40458c"/>
                  </a:solidFill>
                  <a:latin typeface="Tahoma"/>
                </a:rPr>
                <a:t>ФАКУЛТЕТ МЕДИЦИНСКИХ НАУКА</a:t>
              </a:r>
              <a:endParaRPr b="0" lang="en-US" sz="19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319" name="Picture 10" descr=""/>
          <p:cNvPicPr/>
          <p:nvPr/>
        </p:nvPicPr>
        <p:blipFill>
          <a:blip r:embed="rId2"/>
          <a:stretch/>
        </p:blipFill>
        <p:spPr>
          <a:xfrm>
            <a:off x="990720" y="222120"/>
            <a:ext cx="761760" cy="10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Луксације (ишчашења) зглобов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3808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лази до дислокације зглобних површина под дејством прекомерне сил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а слика: дефомација зглоба, бол и ограничена покретљивост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гу бит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Делимичне луксације или сублуксације-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делимични контакт зглобних површи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отпуна луксација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дислокација зглобних површина, уз потпуни губитак међусобног контак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C417-BD6C-4D4B-9B1C-13FF0475E6F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Руптуре мишића и тетива (парцијалне или комплетне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ректним или индиректиним дејством си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Парцијална руптур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јак бол, престанак сваке активности, потпуна функција мишића или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тив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Комплетна руптур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бол и тренутан губитак функције мишића или тетиве, локална импресија на месту прекида мишић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D0EE-4C0A-4800-9C93-1763D673381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Повреде мишићних фасц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гу бити изоловане или удружене са мишићним лезиј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у дејстом директне силе (ударац) у контрахован миши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изоловане повреде фасције може доћи до пролапса мишић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8E96-876D-40DA-A517-932E0F1CED3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Дијагноз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мнеза: механизам и време настанка повре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прегле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пунска дијагностик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Т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9CDE-A50D-4AC1-A3D9-CFDE98AAC0C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ПАТОГЕНЕЗ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Фаза запаљенске реа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Фаза опоравка ткива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 (репарациј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Фаза ремоделир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6ADC-49C2-45DA-8B4B-92DDA926228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аза запаљенске реакциј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звија се на месту оштећења меког ткива неколико часова после повред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паљење настаје под дејством хемијских материја из изумрлих ћелија. Вазодилатација је праћена екстравазацијом и стварањем тзв инфламаторног ексудата богатог беланчевинама и ћелијама запаљењ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бриноген се под дејством ткивног тромбопластина претвара у фибри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аје 3-5 да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D79F-0FA0-4CB9-858B-1D17C969242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аза запаљенске реакциј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линичке карактеристик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. црвенило (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rubor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2. повишена лок.температура (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color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3. бол (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dolor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4. локални оток (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tumor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5. поремећај функције органа (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functio laese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0ED0-34B0-410E-9128-684090E3791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аза опоравка ткива</a:t>
            </a:r>
            <a:r>
              <a:rPr b="0" lang="sr-CS" sz="3600" spc="-1" strike="noStrike">
                <a:solidFill>
                  <a:srgbClr val="660066"/>
                </a:solidFill>
                <a:latin typeface="Tahoma"/>
              </a:rPr>
              <a:t> (репарације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почиње још током прве фазе, након 3 дана од повред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ликује се пролиферацијом капиларне мреже, ствара се гранулационо ткив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вара се ожиљно ткиво од фиброцита (колагена влакн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ормирање ожиљка се завршава након 3 недеље (има тенденцију сталног скраћивањ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E6F9-6333-438E-99A4-B0A8E5293A5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аза ремоделирањ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же трајати до годину дана и виш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лагена влакна добијају у чврстини и усмерењ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8B38-BA33-411A-B398-D4AA9880368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ОПШТИ ПРИНЦИПИ ФИЗИКАЛНОГ ТРЕТМАНА И РЕХАБИЛИТАЦИЈЕ БОЛЕСНИКА СА ПОВРЕДОМ МЕКИХ ТКИВ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Локомоторни систем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38040" indent="-3380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ине: кости, зглобови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8040" indent="-338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игаменти, мишићи и тетиве, живци и крвни судови, поткожно ткиво и кож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8040" indent="-3380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вреде могу настати дејством директне и    индиректне механичке силе која прелаз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8040" indent="-338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раницу еластичне деформа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8040" indent="-3380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лимо их 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8040" indent="-3380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повреде кост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8040" indent="-3380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повреде меких тки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58A0-04EC-4659-8810-A1AAF78ABE0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12952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57360" indent="-457200">
              <a:lnSpc>
                <a:spcPct val="2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est – мировањ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57360" indent="-457200">
              <a:lnSpc>
                <a:spcPct val="2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e - лед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57360" indent="-457200">
              <a:lnSpc>
                <a:spcPct val="2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ompression - компресиј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57360" indent="-457200">
              <a:lnSpc>
                <a:spcPct val="2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levation - елевација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57360" indent="-45720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4FF1-9D33-4A51-93DF-9ECCF1E14E0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Циљеви физикалне терапиј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У првој фаз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узбијање локаног запаље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мањење бо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венција ширења повре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мањење крварења и ото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именом физикалне терапије се смањује секундарна фиброза и обезбеђује квалитетно зарастање повређеног ткив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9B4C-9625-4DC5-9E04-F82E737A7C3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Циљеви физикалне терапиј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Циљ примењене физикалне тх у другој фаз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брзање репараторних процеса одн ставарање оптималних услова за опоравак повређеног тки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Циљ треће фаз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ксимални функционални опорава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атак флексибилност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ишићне снаге и издржљивости, брзине и координациј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бољшање кардиореспираторне функ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D890-450E-4EEA-A7E6-B480E55B527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током имобилизациј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КТХ-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зометријске контракције за повређени сегмент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тивне за слободне сегмент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бука ходу уз помоћ помаг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ИФ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ИМ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D01B-7E69-4C68-8A94-DE9623BB6E9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 у запаљенској фаз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Медикаментозна терапија у запаљенској фаз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САИЛ,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hymoral for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inedol ung, Hepathrombin g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РИ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–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Апликација пешкира претходно потопљеног у хладну (може и слана вода) воду на сегмент тела 30-60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пауза 3-5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Кеса са ледом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Имерзиј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Криомасаж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Лако испарљиве течност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Cryo cuff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метод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5949-B2D7-4CC6-97A5-559929F9A60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запаљенској фаз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Примена компресивног завој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користи се еластични завој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лази до редукције отока и крваре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вољан, али не превелик притисак (посматра се дистални део повређеног сегмент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Елевација екстремитет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дистални сегменти екстремитета изнад хоризонталне равн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лази до смањења ото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повреде ДЕ елевација изнад нивоа ку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повреде ГЕ изнад нивоа срц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B165-8693-4858-91F9-91AFAFAD642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запаљенској фаз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ИНЕЗИ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–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ЛАКШИХ ПОВРЕДА – изометријске вежбе за флексоре,екстензоре и абдукторе. Одржавју контрактилност мишића, спречава настанка атрофије. Побољшава се циркулац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ТЕЖИХ ПОВРЕДА – само изометријске вежб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ДИСАЊА-боља оксигенација тки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ЗА СЛОБОДНЕ СЕГМЕНТЕ ЕКСТРЕМИТЕТА И ТРУПА- повећава се снага, брзина, елстичност и издржљивост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EC3D-FFA0-4B69-9393-B36A0601574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даци примењене физикалне терапиј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побољшање снабдевања крвљ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отклањање запаљенског ектраваз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побољшање фибробластичне репар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AB60-93B2-44DB-9A99-F34EBEEC395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ТЕРМОТЕРАПИЈА –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води до вазодилатације (активне хиперемиј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след хиперемије убрзава се циркулација и бржа је ресорпција екстраваз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ва се истегљивост колагена везивног ткива (тиме се поб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љшава ефекат КТХ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гетски ефека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D2A1-E192-4F0B-A5E5-F62E9EFCC7A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ЕЛЕКТРО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Ф КЈ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едукове стру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Н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Ф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С (сп облик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7A2C-FADD-4486-867E-CB92C916567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Локомоторни систем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окомоторни систем човека представља човеков зглобно-коштано-мишићни систем који му омогућује промену положаја у простору и све остале вољне механичке покрет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вај систем садржи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асивн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активни део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асивни део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вог система чине кости и зглобови, а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активн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келетни мишић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BC03-17C4-444E-B5ED-A3B3BCEFF84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6" name="Picture 5" descr="C:\Users\User\Desktop\преузимање.jpg"/>
          <p:cNvPicPr/>
          <p:nvPr/>
        </p:nvPicPr>
        <p:blipFill>
          <a:blip r:embed="rId4"/>
          <a:stretch/>
        </p:blipFill>
        <p:spPr>
          <a:xfrm>
            <a:off x="6324480" y="4343400"/>
            <a:ext cx="19623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УЛТРАЗВУЧНА МАСАЖ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микромасажа на ћелијском ниво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термичко дејство – повећава се сензибилитет колагена и побољшан је ефекат кт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УЛТРАЉУБИЧАСТИ ЗРАЦ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ваког дана по једна б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за виш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ЛАСЕРОТЕРАП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МАГНЕТОТЕРАПИЈА-ИМП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ВАКУСАК ТЕРАПИЈА-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побарична тх (капа, рука, чизм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1F2A-AB7D-4234-B72F-41C1967308D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ПРИМЕНА  ВАСКУЛАТО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ИНЕЗИ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кон 2-3 дана се започиње ктх програм по престанку боло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ЗОМЕТРИЈСКЕ ВЕЖБ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НАМИЧКЕ ВЕЖБЕ- када болесник почне да толерише изометријс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тивно-потпомогнуте, активне и активне са отпором према функционалном статус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јачања стабилизације труп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ачање слободних сегмената и опште конди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1275-419B-457D-AA2C-DD79A943A2D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грам оспособљавања обухват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вежбе за обим покрета у зглоб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вежбе јачања мишића стабилизатора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тренинг проприоцепције или балан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повратак АД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4544-7F55-4C9A-8B88-908F1D04775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ДРО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топли обло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наизменичне куп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вртложне куп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подводна масаж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подводне вежб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D624-7C32-42C2-8B14-BED71F44851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моделирањ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 физикалних агенаса најчешће се корист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Континуирани УЗ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ИМ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Ласе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Терм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Елект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C161-9716-42CE-987E-20912A5DB44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моделирањ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иљ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побољшање локалне микроциркул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повећање еластичности колагених влакана у повређеним ткив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умањити инфламаторни одговор меких ткива на оптереће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ебно се ставља акценат на ктх и хидрокинезитерап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ценат је на функционалном опоравк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72CA-82ED-47A1-8B17-05656F62A0E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ОТЕРАПЕУТСКИ ПРЕГЛЕД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серв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лп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тон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мишићне снаг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обима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троф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Фукционална процена кроз специфичне тестов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2EDB-C1E1-44F5-81C9-649EB082CF8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40458c"/>
                </a:solidFill>
                <a:latin typeface="Tahoma"/>
              </a:rPr>
              <a:t>МЕКОТКИВНЕ ПОВРЕДЕ РАМЕНОГ ПОЈАС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ме је зглоб састављен од кости, мишића, тетива и лигамена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тиве су ткиво које припаја мишиће за кости. Оне помажу мишићима да покрећу раме. Улога лигамената је да држе кости заједно и тиме доприносе стабилности зглоб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ме чине три кости: лопатица, горњи део надлактице и кључна кост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итав рамени зглоб окружен је зглобном капсулом испуњеном течношћу која подмазује зглоб и чини да он функциониш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F649-0018-4C3F-BCD5-0FB555E7AF7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Мекоткивне повреде раменог појас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Због своје сложености се често назива и РАМЕНИ КОМПЛЕКС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спадање само једног од фактора стабилности доводи но нестабилног раме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Зглоб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рамена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је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највулнерабилнији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на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ГЕ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јер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у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анатомска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грађа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омогућује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аксималну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окретљивост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али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о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цену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жртвовања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стабилности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0E1C-F9CD-4355-9158-FDACCBFA416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ПОВРЕДЕ МЕКИХ ТКИВ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овреде и обољења рамен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индром болног рам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скид тетиве ротаторне манжет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стабилност рам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ритација тетиве бицеп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рзнуто рам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и рам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ртритис рам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81C1-3E8C-4B6E-A666-47BE77F8250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еде меких ткива ГХ зглоба варирају од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12880" indent="-3693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ких дисторзија, преко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12880" indent="-3693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онтано репонираних сублуксација и луксација, до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12880" indent="-3693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шких ишчашења раменог зглоба са већим оштећењима и прекидима капсуле, крвних судова, лигамената и околних мишић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3110-7202-4448-BBFB-214B4EE0D49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Акутне повреде мишића рамен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ускулотендинозне повреде рамена спортиста и ту спадају првенствено повреде м. делтоидеуса, м. трицепса, м. пекторалиса мајора и тетиве м. трапезиу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вреда је најчешће последица дирекног ударца или екцесивни покрет при механизму бацањ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ве повреде су чешће код спортиста са постуралним деформитето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татички положај тела изазива велико трошење мишића и лигамената и тако временом настају повред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23AA-3CDD-4DEC-BC5F-8B2A9210894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ЛУКСАЦИЈА РАМЕНОГ ЗГЛОБ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а луксација код човека је предње ишчашење гленохумералног зглоб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д на опружену руку која се налази у абдукцији, спољашњој ротацији и екстензиј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E1AB-1F73-40D1-98F8-14B2021D7A3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ЛУКСАЦИЈА РАМЕНОГ ЗГЛОБ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гу имати акутну и хроничну етиологиј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стабилност хумероскапуларног зглоба дели се у три групе и то: према етиологији, правцу и тип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А. Тип-луксац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1. сублуксација и 2. сублуксација – лукс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Б. Правац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1. предње, 2. задње 3. у више праваца: а) предње – задње, б) задње – предње и ц) предње – доње – зад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Ц. Етиолог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1. трауматске, 2. атрауматске и 3. вољне, невољне, конгениталне, неуромускуларн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FD0A-DC41-4E01-B8F0-6B3E93FDC27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еђена особа се појављује придржавајући повређену руку у позицији абдукције и спољашње ротациј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лава хумеруса се палпира ван гленоид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исутна је празнина испод акромио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. аксилари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ТГ рамена да би се искључил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FFA3-8BFB-45C7-B1EE-C2262537A33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Акутна предња луксац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–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интракапсуларне луксације са дезинсерцијом капсуле и лабрума настају код младих, а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луксације са руптуром капсуле и расцепима м.субскапулариса код старијих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х. Десаултов завој који спречава абдукцију и спољну ротацију на 4-6 недеља или Десаултов завој појачан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ипсом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8472-74DF-4FB6-83A9-EF77065E1BB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ЗАДЊА ЛУКСАЦИЈА РАМЕ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837720" y="19051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етка повред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есто се превиди (и до 80 % 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линичка слика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фиксираним положајем надлактице у положају аддукције и унутрашње рот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47D1-9F97-40B0-A3A5-34711A1979B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Сублуксације гленохуморалног зглоб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е најчешће падом на испружену руку, или при бацању лопте, али тада је зглоб већ у хроничној фази обољењ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ублуксација је само увод у луксацију раме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ма правцу разликујемо три типа: предњи, задњи и више правц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апија је конзерватив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BA15-1A55-45BC-85AE-3B644CE1FC4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Луксација стерноклавикуларног зглоб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шчашење настаје при паду на надлактицу, деловањем компресивне силе, која преко уздужне осовине клавикуле доводи до померања и руптурирања чауре и исклизавања клавикуле из плитке чашиц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ечење је конзерватив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C770-3EFB-4816-8F29-CAAAEB9B446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ОВРЕДЕ МЕКИХ ТКИ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НДОГЕ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- синдроми пренапрез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ГЗОГЕ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– настају деловање спољашње силе или аген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гу бити у з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исности о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д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оштећења интегритета кож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отворе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затворен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A8B1-FAAA-464A-8D58-CFD362DE02C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Сyндрома м.супраспинатуса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Руптура ротаторне капе зглоба рамена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Хронични импинџмент синдром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себан механизам повређивања који се јавља у зглобу рамена представља импиџмент синдр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мпиџмент представља сударање структура у субакромијалном простору (врло узак простор испод акромиона). Јавља се код покрета руке изнад глав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лази до контакта хумеруса и акромиона (коштаног избочења лопатице) и околних лигамената. При њиховом сударању, бивају притиснуте тетиве ротаторне манжетне и тетива дуге главе бицепс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00D9-A4EC-46BD-9311-E430E128123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зроци су: дисбаланс мишић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ољашњих и унутрашњих ротатор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мена, недовољна истегнутост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труктура рамена, деформација акромиона 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стабилност зглоба раме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Хроничан импиџмент доводи до иритације тих структура: тендинитиса ротатора рамена или тетиве дуге главе бицепс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о реакција на импиџмент може настати упала бурзе (бурзитис). Реакција бурзе представља одбрамбену реакц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1636-944F-4933-905D-8497584A661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убакромиални бурзитис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имтоми су бол, при покрету руке (посебно подизање) и на притисак, као и ноћни бол. Терапија: мировање, антиреуматик, физикална терапиј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д упорних бурзитиса примењују се блокаде кортикостероид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каснијој рехабилитацији  раде се вежбе за јачање ротатора рамена и корекција техник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рехабилитацији ове повреде теба избегавати вежбе подизања изнад и иза главе, као и исте положаје руке при спавањ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C0D4-490D-4861-B6B0-3E2BEEEE683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Руптура тетиве дуге главе бицепс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уцање тетиве дуге главе бицепса углавном се јавља код старијих спортиста и дегенеративне је природ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д млађих спортиста она је последица хроничног импиџмента и нелеченог тендинити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имптоми су: изненадан оштар бол у пределу рамена, осећај пуцања, деформитет бицепса (знак Попаја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ечење је хируршко код младих спортиста, код старијих је без функционалног знача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B8C9-BB00-482D-B828-9CC68DA3531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акутне повреде меких ткива рамена су повреде мишића и тети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утне повреде мишића рамена су мускулотендинозне повреде рамена спортис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долази до повреда следећих мишића:  м. делтоидеуса, м. трицепса, м. пекторалиса мајора и тетиве м. трапезиу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еда је углавном последица дирекног ударца или наглог покрета истезања при механизму бацањ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84C9-728A-4765-93D1-191C485728D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ливачко рам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рактеристична повреда раме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Јавља се код пливача где долази до истегнућа, или мале напрслине супраспиналног мишића. Паралелно долази до истегнућа (или напрснућа ротатора испреплетане групе мишића укључујући и супраспинални мишић) тетива и капсуле која окружује раме и даје му стабилност на кугластом зглоб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ред пливања и ватерпола, пливачко раме се јавља код кошаркаша, рукометаша, тенисера, рагбиста, а често га срећемо код зидара, сликара, као и код неких фабричких послова и радова у кућ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0A8F-6C5E-4FA2-A828-D82338F66DA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40458c"/>
                </a:solidFill>
                <a:latin typeface="Tahoma"/>
              </a:rPr>
              <a:t>МЕКОТКИВНЕ ПОВРЕДЕ НАДЛАКТИЦЕ, ЛАКТА, ПОДЛАКТИЦ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кат је комплексан зглоб који формирају 3 кости - једна у надлактици и две у подлактиц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анак слој хрскавице прекрива крајеве кости које формирају зглоб лак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иновијална мембрана зглоба производи течност која испуњава шупљине између кости и подмазује зглоб смањујући трење и оштећење кост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F5D9-3705-4AF5-91B6-D3D45EBE24C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акат је изложен повредама и оштећењима, како због своје грађе, тако и због чињенице да је један од већих зглобова на једном од најактивнијих делова тел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е су повредама изложене тетиве услед чега може настати тзв. тениски или голферски лакат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 окоштавања лакта (пропадање хрскавице) може доћи услед процеса старења или након повред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вреде за последицу могу имати укоченост или нестабилност лак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C530-8636-4CA2-AD00-C6BF4B0D2F1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Синдроми тениског и голферског лакт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у код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штећења тетива које учествују у грађи лакта. Тетиву чини ткиво која припаја мишић за кост. Постоји неколико специфичних проблема када су у питању тетиве. Заједнички назив за ове проблеме је тендинитис 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олферски лакат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edial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epico.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) је стање које изазива бол на месту где се тетиве подлактице спајају са коштаним делом на ун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рашњој страни лакта. Бол се такође може проширити на подлактицу и ручни зглоб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ниски лакат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la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epic.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) бол јавља на спољашњој страни лакта, на месту припоја тетива опружача шаке и к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9928-A7C6-493C-B273-95B224C0038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ОВРЕДЕ МЕКИХ ТКИ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онтузије (нагњечења)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мишића, тетива, зглобов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и нера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истензије (истегнућа) мишића и лигамен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исторзије (уганућа)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Луксације (ишчашења)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Руптуре мишића и тетива (парцијалне или комплетн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овреде мишићних фас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Секција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ишића и тетив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7F1E-8A5C-4D70-AD12-C40C26B70DE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Руптура дисталне тетиве трицепс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стаје при изразитом оптерећењу руке са савијеним лактом, као при подизању терета, или приликом пада на рук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ликом повреде може доћи до отргнућа саме тетиве са припоја за кост што називамо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уптур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или се може отргнути мањи комадић кости на који се хвата тетива што називамо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вулзија тетив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д настанка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вреде јавља се изненадна, јака бол уз понекад чујни феномен пуцања те појава хематома уз слабост екстензије (испружања) лак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7FB9-AB05-4537-9E5B-FD308453072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Руптура дисталне тетиве трицепс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762120" y="15238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авља се код ексцентричне контракције (оптерећење код којег долази до напињања – контракције мишића уз његово издуживање) мишића при јаком оптерећењу руке са савијеним лактом као при подизању терета или утега или приликом пада на рук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се јавља код мушкараца у 30-40 годинама живота, обично на доминантној руц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D032-2367-49FC-AACE-470E2F95123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761760" y="16002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д настане руптура болесници обично при подизању терета осете изненадну бол, уз понекад чујан феномен пуцања и осећај да је нешто пукло у лакт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кон тога отежано испружају лакат због болова, а може се у подручју лакта појавити оток и хематом, а често је видљиво и повлачење мишића према рамену уз видљив и палпабилан дефект на месту руптуре тетив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559C-A85D-4F50-AD67-89B6716F0E9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Руптура дисталне тетиве бицепс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914040" y="16765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е при изразитом оптерећењу руке са савијеним лактом, као при подизању тер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и повреди се јавља изненадан бол уз понекад чујни феномен пуцања, појава хематома уз слабост супинације подлактице и слабост флексије лак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еда се најчешће јавља код мушкараца између 40 и 60 годи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B235-48D2-4832-9F03-11C431A6BCB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Руптура дисталне тетиве бицепс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д настане руптура болесници обично при подизању терета осете изненадну бол, уз понекад чујан феномен пуцања и осећај да је нешто пукло у лакт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кон тога не могу савити лакат због болова, а може се у подручју лакта појавити от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и хемат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г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преглед, Уз, РТГ , МР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7648-A141-465C-A47E-AC2B64A1B1F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Ишчашења лакта</a:t>
            </a:r>
            <a:br>
              <a:rPr sz="4400"/>
            </a:br>
            <a:r>
              <a:rPr b="0" i="1" lang="en-US" sz="3600" spc="-1" strike="noStrike">
                <a:solidFill>
                  <a:srgbClr val="660066"/>
                </a:solidFill>
                <a:latin typeface="Tahoma"/>
              </a:rPr>
              <a:t>Luxatio cubit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just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шчашење лакта је на другом месту по учесталости после ишчашења у раменом зглоб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 algn="just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 algn="just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ма дислокацији  зглобних делова  луксације лакта се деле на: задње, предње, латералне и медијалн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 algn="just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 algn="just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су задње луксације лакта које настају дејством директне силе на лакат при паду на испружену рук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EB56-74A4-47D8-BDFF-9F5939D8637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Ишчашења лакта</a:t>
            </a:r>
            <a:br>
              <a:rPr sz="4400"/>
            </a:br>
            <a:r>
              <a:rPr b="0" i="1" lang="en-US" sz="3600" spc="-1" strike="noStrike">
                <a:solidFill>
                  <a:srgbClr val="660066"/>
                </a:solidFill>
                <a:latin typeface="Tahoma"/>
              </a:rPr>
              <a:t>Luxatio cubit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761760" y="1676520"/>
            <a:ext cx="510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е кости, само радијус или само ул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задња и задње-латерална 80 до 90%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ЛИНИЧКА СЛИК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5ст  флексија подлактице; релативно скраћење; олекранон проминира позади; кубитална фоса испуњена дист. хумерус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процена НВ; удружен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3E5C-CF4B-4FD4-98E4-395A5775A1A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Ишчашења лакта</a:t>
            </a:r>
            <a:br>
              <a:rPr sz="4400"/>
            </a:br>
            <a:r>
              <a:rPr b="0" i="1" lang="en-US" sz="3600" spc="-1" strike="noStrike">
                <a:solidFill>
                  <a:srgbClr val="660066"/>
                </a:solidFill>
                <a:latin typeface="Tahoma"/>
              </a:rPr>
              <a:t>Luxatio cubit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стаје при паду на руку испружену у лакт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честалост овог повређивања креће се од 25 до 28% свих лукс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мликације услед неадекватног лечења (имобилизација није довољно дуго примењена) појава миозитиса осификанс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ублуксација и луксација овог зглоба најчешће се јавља код рвача, џудиста, гимнастичара и у спортовима са лопт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B471-9EC5-4576-AA3B-CB961A3F971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Терап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Репози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мобилизац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ложај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флекси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од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90º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редње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ложај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длактиц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ко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тра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обичн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ок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тр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едељ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акон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кидањ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мобилизаци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рук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треб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држат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јо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едељ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дан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мител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чем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треб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проводит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актив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вежб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лакт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асив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вежб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забрање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6A45-C84F-495F-8C71-3916CFD5A4C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опликациј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вреде нерава (н. медијанус и н. улнарис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аскуларне повре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лцификације лигамен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yositis ossificans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х: ограничити покрете (шина) док траје оток и осетљивост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ни оперативни тх је контраиндиков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ндометацин, ниске дозе зрачењ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5652-9FBD-466F-B700-E9128E9C159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20" name="Picture 5" descr="C:\Users\User\Desktop\преузимање (1).jpg"/>
          <p:cNvPicPr/>
          <p:nvPr/>
        </p:nvPicPr>
        <p:blipFill>
          <a:blip r:embed="rId5"/>
          <a:stretch/>
        </p:blipFill>
        <p:spPr>
          <a:xfrm>
            <a:off x="6734160" y="0"/>
            <a:ext cx="24098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Контузије (нагњечења)</a:t>
            </a:r>
            <a:r>
              <a:rPr b="0" lang="en-GB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мишића, тетива, зглобова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и нерав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у под дејством тупе динамичке си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се манифестуј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то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рвни подли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граничена функц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лази до оштећења и некрозе повређеног ткива и крвних судо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488A-9EA5-4EF4-BF51-6455507356A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295280" y="39625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 algn="just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сновни циљ физикалне терапије за време и после скидања имобилизације је савладати обавезно присутне и изражене контрактуре меких ткива у лакт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5B05-4A87-466E-B4C0-9F415A1144E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Бурзитис лак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јчешће се среће код спортиста (тенисера, бацача диска…), чистачица, зидара, радника на траци и других особа чија професија захтева често извођење истих покре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тудентски лакат представља упалу бурзе на месту где лакат додирује подлогу приликом ослањања. Ово стање настаје када услед дуготрајног седења и ослањања о сто, на пример приликом учења, долази до притиска на слузну врећицу, а затим и до упал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урза бубри, отиче и јавља се бол који се нарочито испољава притиском на оболело мест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8EC1-F2FB-4227-BF92-02A6A9887CE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40458c"/>
                </a:solidFill>
                <a:latin typeface="Tahoma"/>
              </a:rPr>
              <a:t>МЕКОТКИВНЕ ПОВРЕДЕ ШАК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исторзије су честа повреда у овом региону. Иако одају утисак лаке повреде, могу понекад да се лече дужи временски период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исторзије ручног зглоба, настају при претераном латералном стресу, праћене су болом, отоком и ограничењем покрета. Треба увек при овим повредама искључити коштане лезије, прелом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скафоидне кости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ечење се састоји у примени базичних принципа лечења повред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BC45-48BC-47CE-8A07-C0A72349BC7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исторзије интерфалангеалних зглобова су најчешће последица деловања бочне сил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што овде нема компезаторне функције лумбрикалних и интеросалних мишића, резидуалне нестабилности могу да поремете функцију прс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A769-61E5-428D-8591-3EE462AC0C3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Затворене повреда тети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љичаст или чекићаст деформитет (Malet finger, baseball finger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еформитет у виду рупице за дугме (Boutonniere, buttonbole deformit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уптура завршног дела флексорног систе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rbus De Quervai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itendinitis crepita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ndovaginitis stenosa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кид тетиве дугог опружача пал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8C93-B1B4-428C-8F12-FD549032837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Маљичаст или чекићаст деформитет (Malet finger, baseball finger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ва врста деформитета се најчешће среће код спортиста. Ово се дешава зато што се лонгитудинална сила која делује од врха прста, претвара у акутну флексиону сил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формитет се карактерише тиме што дистална фаланга прста клоне у флексију и не може се активно опружи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колико је фрагмент кости на тетиви мали лечење је неоператив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мобилизација се препоручује у трајању од 3 до 4 недеље, максимум 6 недељ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C3C9-0E28-4B93-AFE1-EBE3E87AB61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Руптура завршног дела флексорног систем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киди флексорних тетива прстију су ретке повреде. Обично су авулзионог типа и јављају се најчешће на дисталним фаланг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а локализација повреде је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V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прст шаке. Бол, као један од клиничких знакова ове повреде, ирадира ка длану шаке. Терапија је конзервативна и подразумева имобилизацију шаке у функционалном положају 6 до 8 недељ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FA12-9194-481A-8CEC-385C0E71604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Morbus De Quervaine 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(Tendinitis stenosans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838080" y="19051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ољење није тако често. Карактерише се болом у пределу доњег окрајка радијуса и то нарочито кад се форсирано спречава покрет абдукције палц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рапија обољења, уколико су тегобе велике, је оперативна и састоји се у пресецању тетивног омотач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1947-99E3-42EF-B6F1-47539E58A9A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eritendinitis crepitan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локализације перитендинитиса су следећа подруч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длактица у подручју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extensor carpi radili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m extensora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 абдуктора палца често код спортиста (веслача и кајакаша, код тенисера, хокејаша и мачевалац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дручје екстензора у карпалним каналима код скијаш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тива дуге главе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biceps brachi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раменом зглоб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CD6F-D98E-42ED-A1EA-A39DD784F71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Дистензије (истегнућа) мишића и лигаменат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37720" y="1828800"/>
            <a:ext cx="5715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у форсирним контракцијама насупрот отпору, снажном контракцијом велике амплитуде или прекомерним истезање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гу бит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истегнућа без видљивог прекида мишићног влакна и крварењ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истегнућа са микроруптурама, долази до делимичног прекида појединих мишићних влакана, уз оштећење кс и крварења (настанак хематом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5697-35AD-4447-ABF7-C3B43BB586E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1" name="Picture 5" descr="C:\Users\User\Desktop\istegnuce_misica.gif"/>
          <p:cNvPicPr/>
          <p:nvPr/>
        </p:nvPicPr>
        <p:blipFill>
          <a:blip r:embed="rId5"/>
          <a:stretch/>
        </p:blipFill>
        <p:spPr>
          <a:xfrm>
            <a:off x="6762600" y="1752480"/>
            <a:ext cx="2381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ndovaginitis stenosa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зрок повремених блокада клизања тетива кроз тетивне омотаче су фиброзна запаљења омотача(обично у висини метакарпофалангеалних  зглобова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ечење је оператив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BBB7-0D40-499C-A83A-8068055350C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Дисторзије (уганућа) зглобов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335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Повреда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капсуле, лигамената, синовије и тетивних припоја. Дејство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грубе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механичке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силе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доводи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до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неконтролисаног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покрета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у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зглобу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који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прелази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физиолошку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границу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еластичности</a:t>
            </a:r>
            <a:r>
              <a:rPr b="0" lang="sr-CS" sz="2400" spc="-1" strike="noStrike">
                <a:solidFill>
                  <a:srgbClr val="002060"/>
                </a:solidFill>
                <a:latin typeface="Tahoma"/>
                <a:ea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  <a:ea typeface="Arial"/>
              </a:rPr>
              <a:t>I </a:t>
            </a:r>
            <a:r>
              <a:rPr b="0" lang="sr-RS" sz="2400" spc="-1" strike="noStrike">
                <a:solidFill>
                  <a:srgbClr val="ff0000"/>
                </a:solidFill>
                <a:latin typeface="Tahoma"/>
                <a:ea typeface="Arial"/>
              </a:rPr>
              <a:t>ст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  <a:ea typeface="Arial"/>
              </a:rPr>
              <a:t>епен- елонгациона дисторз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     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Истезање лиг.апарата капсуле и синовије, без прекида анатомског интегитета лигаменат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  <a:ea typeface="Arial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  <a:ea typeface="Arial"/>
              </a:rPr>
              <a:t>II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  <a:ea typeface="Arial"/>
              </a:rPr>
              <a:t>степен- лацерациона дисторз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2060"/>
                </a:solidFill>
                <a:latin typeface="Tahoma"/>
                <a:ea typeface="Arial"/>
              </a:rPr>
              <a:t>    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Долази до делимичног прекида континуитета лиг. Ситних кс, без израженог оштећења функције. Хематом настаје брзо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  <a:ea typeface="Arial"/>
              </a:rPr>
              <a:t>III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  <a:ea typeface="Arial"/>
              </a:rPr>
              <a:t>степен - руптурациона дисторз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     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Најтежи степен, прекид континуита лиг., каспуле и неких вас.елемената. Потпуни губитак функције. Клинички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     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Нефиз.положај зглоба, оток, хематом, бол, без активних покрет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Windows User</cp:lastModifiedBy>
  <dcterms:modified xsi:type="dcterms:W3CDTF">2020-02-12T19:05:50Z</dcterms:modified>
  <cp:revision>959</cp:revision>
  <dc:subject/>
  <dc:title>Rehabilitacija traumatoloških bolesnika</dc:title>
</cp:coreProperties>
</file>